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DD4-C619-4056-885E-F381107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4A7-47CD-44FC-BF28-7C31B01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CC6-52A7-4FBA-830C-238278D7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A2E-EEEB-459E-9FEE-279D4B29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3446E-B38B-4F3C-8D66-B1ACB05C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389A-9800-4A4C-9B05-3936CFA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C1A4C-844D-461C-A167-979A37AE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F01BC-A4C6-4B0D-B0D8-2C8627D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51102-4935-4044-B8C5-5CFD47A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C7B7C-08CE-4AF3-97A4-F2F29E82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CD329-15DB-4513-9E79-1D46995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D8D-8969-45AA-BF9E-344FBAD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31AA9-6FDB-46A3-985F-6FD958D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FAA27-7779-4F73-AF16-5F66130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7F698-B911-4540-ABC2-8FFD8F9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0D01F-77C4-47FE-B8DC-74A4FD28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5A8C-2492-492B-8D8E-2DA289AD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FE8-31A0-40F8-B808-2BEC215D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F67-E934-4279-88BF-387D364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538-B0C2-41E6-B0F1-5E57F945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FD2-72E1-4293-88F6-E25E7D4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6AF-5BD0-4B92-AC67-BD089CE9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989-B463-400B-8EA1-4A4BDF24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B3D-3E60-4DA7-9E6C-4E55077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8CA-56D6-4544-8D4E-C0B54527A7F5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14A-768E-4523-81DA-DF50A37A9087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e3e3ff"/>
                </a:solidFill>
                <a:latin typeface="Arial"/>
              </a:rPr>
              <a:t>THE MARKET ECONOMY &amp; THE CIRCULAR FLOW OF INCOME MODEL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j0237176"/>
          <p:cNvPicPr/>
          <p:nvPr/>
        </p:nvPicPr>
        <p:blipFill>
          <a:blip r:embed="rId1"/>
          <a:stretch/>
        </p:blipFill>
        <p:spPr>
          <a:xfrm>
            <a:off x="3419640" y="3357720"/>
            <a:ext cx="24476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ROLE OR PRODUC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rms or producers produce goods and services with the factors of production that consumers prov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) They sell these goods in the marketplace for prices acceptable to both buyers and se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en consumers change their preferences, firms must respond and shift prod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re market economies do not exist in the real world. All countries have governments which are involved in economic decision-making to varying degre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conomies like Australia’s and America’s are called mixed economies or sometimes free enterp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main characteristics of a market economy 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PRICE MECHANIS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This operates most of the time to clear markets. It is price which determines the allocation of resources and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3e3ff"/>
                </a:solidFill>
                <a:latin typeface="Arial"/>
              </a:rPr>
              <a:t>CHARACTERISTICS OF A MARKET ECONOM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ECONOMIC FREEDO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Freedom to choose an occupation, start a business, save, invest, set a price for your product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PRIVATE PROPERTY OWNERSHIP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Private ownership of property is protected by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3e3ff"/>
                </a:solidFill>
                <a:latin typeface="Arial"/>
              </a:rPr>
              <a:t>CHARACTERISTICS OF A MARKET ECONOM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SELF INTERES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People make decisions based on what is good for themselves. Consumers seek to earn as much income as possible and spend it in a way which maximises their satisfa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ONSUMER SOVEREIGNTY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Consumer preferences decide what producers produce and ultimately what they charge for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free enterprise economy consists of three main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USEHOLDS &amp;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RMS OR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CIRCULAR FLOW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ing the sheet in front of you fill in the missing boxes to complete the basic circular flow of income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ircular  Flow - Simpl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280" y="2819520"/>
            <a:ext cx="2514600" cy="5331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019920" y="2819520"/>
            <a:ext cx="1981080" cy="5331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Produ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905120" y="2286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6477120" y="2286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895480" y="213372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90920" y="3733920"/>
            <a:ext cx="3124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Goods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47712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90512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2209680" y="4876920"/>
            <a:ext cx="3886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Consumption Expendi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V="1">
            <a:off x="678168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V="1">
            <a:off x="6781680" y="1828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600200" y="1828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895480" y="167652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Object 18" descr=""/>
          <p:cNvPicPr/>
          <p:nvPr/>
        </p:nvPicPr>
        <p:blipFill>
          <a:blip r:embed="rId1"/>
          <a:stretch/>
        </p:blipFill>
        <p:spPr>
          <a:xfrm>
            <a:off x="7089840" y="4724280"/>
            <a:ext cx="1438200" cy="145260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>
            <a:off x="1905120" y="2286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5410080" y="2286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 flipH="1">
            <a:off x="571464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1600200" y="5029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609588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H="1">
            <a:off x="1904760" y="3886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H="1">
            <a:off x="5410080" y="1828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 flipH="1">
            <a:off x="1600200" y="1828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ROLE OF CONSUM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) Supplies firms with the factors of production (land,labour,capital,enterprise) in return for payments we call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) People who have no resources to offer would receive no income unless governments stepped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4:25:22Z</dcterms:created>
  <dc:creator>hinks.russell</dc:creator>
  <dc:description/>
  <dc:language>en-US</dc:language>
  <cp:lastModifiedBy>Alison Taylor</cp:lastModifiedBy>
  <dcterms:modified xsi:type="dcterms:W3CDTF">2011-11-22T02:18:41Z</dcterms:modified>
  <cp:revision>5</cp:revision>
  <dc:subject/>
  <dc:title>THE MARKET ECONOMY &amp; THE CIRCULAR FLOW OF INCOME MODEL</dc:title>
</cp:coreProperties>
</file>